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10.jpeg" ContentType="image/jpeg"/>
  <Override PartName="/ppt/media/image8.jpeg" ContentType="image/jpeg"/>
  <Override PartName="/ppt/media/image9.wmf" ContentType="image/x-wmf"/>
  <Override PartName="/ppt/media/image5.jpeg" ContentType="image/jpeg"/>
  <Override PartName="/ppt/media/image13.jpeg" ContentType="image/jpeg"/>
  <Override PartName="/ppt/media/image21.png" ContentType="image/png"/>
  <Override PartName="/ppt/media/image4.png" ContentType="image/png"/>
  <Override PartName="/ppt/media/image18.jpeg" ContentType="image/jpeg"/>
  <Override PartName="/ppt/media/image17.jpeg" ContentType="image/jpeg"/>
  <Override PartName="/ppt/media/image16.jpeg" ContentType="image/jpeg"/>
  <Override PartName="/ppt/media/image14.jpeg" ContentType="image/jpeg"/>
  <Override PartName="/ppt/media/image22.jpeg" ContentType="image/jpeg"/>
  <Override PartName="/ppt/media/image1.jpeg" ContentType="image/jpeg"/>
  <Override PartName="/ppt/media/image23.jpeg" ContentType="image/jpeg"/>
  <Override PartName="/ppt/media/image2.jpeg" ContentType="image/jpeg"/>
  <Override PartName="/ppt/media/image24.jpeg" ContentType="image/jpeg"/>
  <Override PartName="/ppt/media/image15.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2ECDC-69DB-4F25-9560-091EC39B53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Japanese immigrants came to the United States in 1843, almost 100 years before Pearl Harb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7, 1941 was the attack on Pearl Harb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nicate to students the shock of the attack, and the U.S. entry into the World War 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ight want to question students how they felt about September 11 or how they might feel if we were attacked.  What emotions would they feel?  How might they want to respond?</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68B94-3308-46F4-AC16-37D99B2D28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5DE05-2F43-4175-B257-4DB3DDDEC5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040"/>
            <a:ext cx="5486400" cy="4343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WWII, the U.S., via Executive Order 9066  incarcerated roughly 120,000 people of Japanese Ancestry into a set of relocation or concentration cam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roximately, 2/3s of the 120,000 people were American citizens, Nise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ere first sent to temporary detention centers; often horse racing tracks which were converted for this purpose.  In many cases, Japanese were given a mere 48 hours to sell their personal belongings, their businesses, their homes, their proper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what strikes you about the location of many of these relocation areas?   (The remote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ew places of no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zanar, near Lone Pine, CA, was where many people from Southern California were s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paz, Utah was where many people from the Bay Area were s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rt Mountain, Wyoming was  the place of a serious resistance against the cam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le Lake, CA, near the Oregon border was where most people who were thought to be disloyal were s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no evidence of any crime against the U.S. committed by a person of Japanese descent during  WWII.</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5AB18-2CE4-4D28-A19C-3773513B34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the students comment on this pic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ps were surrounded by barbed wire.  There were guard towers patrolled by the milita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ese Americans were told that the camps were to keep them safe.  One internee noted, that “the guns were pointed in, not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early days, the Americans tried to anticipate the Japanese American food interes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ral families lived in each hut.  Families put up sheets as divis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ower facilities were communal.  There are stories about modest people waiting until the middle of the night to sho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EDF38-61B4-4150-BA83-C83DB66BD3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ing from previous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are in this war, how do we treat people of German, Italian or Japanese ancest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we make a distinction between the two?  Are we more frightened of Japanese than Germans or Italians?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ight want to bring up the topic of race/ethnicity here.  The U.S. has a difficult history in how it both treated immigrants or people of color.    Examples are plentiful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determine whether you want to discuss how we treat people whose ancestry came from the countries we are at war with or whether this is an issue of discrimination?</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5BFA9-AD96-4064-98AE-AAB8F4A3E5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the people were able to leave in 1943 if they were able to find work in the interior of the country; any state other than the Pacific states (CA, OR, or W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government closed the camps, they gave internees a bus ticket to wherever they wanted to go, and $2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end of the war, no person of Japanese ancestry was charged with any crime of sabotage or espionage.</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209F3-5680-4E88-8B97-A9627DF43D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47" name="Text Box 6"/>
          <p:cNvSpPr/>
          <p:nvPr/>
        </p:nvSpPr>
        <p:spPr>
          <a:xfrm>
            <a:off x="6248520" y="883908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ecutive Order 9066 provided the legal authority for the forced removal of people from military are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the Order does not say “Japanese Ancestry,” this law was only applied to people of Japanese ancest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w was primarily aimed at the three West Coast states, California, Oregon, and Washington.    The law was </a:t>
            </a:r>
            <a:r>
              <a:rPr b="0" lang="en-US" sz="1200" spc="-1" strike="noStrike" u="sng">
                <a:solidFill>
                  <a:srgbClr val="000000"/>
                </a:solidFill>
                <a:uFillTx/>
                <a:latin typeface="Calibri"/>
              </a:rPr>
              <a:t>not</a:t>
            </a:r>
            <a:r>
              <a:rPr b="0" lang="en-US" sz="1200" spc="-1" strike="noStrike">
                <a:solidFill>
                  <a:srgbClr val="000000"/>
                </a:solidFill>
                <a:latin typeface="Calibri"/>
              </a:rPr>
              <a:t> aimed at people of Japanese ancestry in Hawaii,  who were a significant number of the population, nor people of Japanese ancestry in the interior of the count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e what we mean about people of Japanese Ancest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sei:  Japanese immigrants to the U.S.  By law, Issei were not allowed to naturaliz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sei:  Japanese-Americans born 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 the difference between these two groups, in terms of attitude (for Nisei, this is the only country they ever knew) and in legal rights (Nisei had the protections of U.S. citizens offered by the Constit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2D943-19C8-43D9-95BF-11A04589F1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24A6F-A4C5-426A-9F4E-AD245DD958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C24DC2-8F02-4D51-BE5E-32B04080EF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57B7D-3D39-46C2-B494-BC9C33065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A7B79F-3BF5-4428-8683-B405BDA4D4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A8779C-4D07-4038-9BB5-E66350B147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91217-784A-4EC5-B583-308194742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4913A-35A5-4EE9-8FA6-ED61B9B2C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40DF6-B439-4385-977F-6E716DFC9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0C6FF-D269-4AD2-B2CC-C1FFEB4F6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A9DAF-C8A4-46EA-A327-8004CB2BE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0421D-8E5F-408E-BE32-4B69E0228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1B1A5-E0A4-4D63-B4F5-928731679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4C22C-B4BD-411D-A9E9-C94BC99401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373D9-44C7-4B7B-987E-274D1263FC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masshist.org/database/viewer.php?item_id=2451&amp;mode=small&amp;img_step=1&amp;&amp;pid=3&amp;ft=Object%20of%20the%20Month&amp;nodesc=1"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n.wikipedia.org/wiki/File:John_Lesene_Dewitt_copy.PNG"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cember 7, 1941</a:t>
            </a:r>
            <a:br>
              <a:rPr sz="3600"/>
            </a:br>
            <a:r>
              <a:rPr b="0" lang="en-US" sz="3600" spc="-1" strike="noStrike">
                <a:solidFill>
                  <a:srgbClr val="000000"/>
                </a:solidFill>
                <a:latin typeface="Arial"/>
              </a:rPr>
              <a:t>“A day that will live in infamy”</a:t>
            </a:r>
            <a:endParaRPr b="0" lang="en-US" sz="3600" spc="-1" strike="noStrike">
              <a:solidFill>
                <a:srgbClr val="000000"/>
              </a:solidFill>
              <a:latin typeface="Arial"/>
            </a:endParaRPr>
          </a:p>
        </p:txBody>
      </p:sp>
      <p:pic>
        <p:nvPicPr>
          <p:cNvPr id="49" name="Content Placeholder 3" descr=""/>
          <p:cNvPicPr/>
          <p:nvPr/>
        </p:nvPicPr>
        <p:blipFill>
          <a:blip r:embed="rId1"/>
          <a:stretch/>
        </p:blipFill>
        <p:spPr>
          <a:xfrm>
            <a:off x="1523880" y="1981080"/>
            <a:ext cx="6078600" cy="4525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
          <p:cNvPicPr/>
          <p:nvPr/>
        </p:nvPicPr>
        <p:blipFill>
          <a:blip r:embed="rId1"/>
          <a:stretch/>
        </p:blipFill>
        <p:spPr>
          <a:xfrm>
            <a:off x="0" y="762120"/>
            <a:ext cx="9144000" cy="5398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3" descr=""/>
          <p:cNvPicPr/>
          <p:nvPr/>
        </p:nvPicPr>
        <p:blipFill>
          <a:blip r:embed="rId1"/>
          <a:stretch/>
        </p:blipFill>
        <p:spPr>
          <a:xfrm>
            <a:off x="457200" y="20520"/>
            <a:ext cx="8229600" cy="6816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ons of Japanese Ancestry in US</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40: approx 127,000.  63% Nisei (American born second gene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0,000 removed and inter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http://www.nps.gov/manz/images/20061011134538.jpg"/>
          <p:cNvPicPr/>
          <p:nvPr/>
        </p:nvPicPr>
        <p:blipFill>
          <a:blip r:embed="rId1"/>
          <a:stretch/>
        </p:blipFill>
        <p:spPr>
          <a:xfrm>
            <a:off x="1447920" y="304920"/>
            <a:ext cx="6095880" cy="4343400"/>
          </a:xfrm>
          <a:prstGeom prst="rect">
            <a:avLst/>
          </a:prstGeom>
          <a:ln w="0">
            <a:noFill/>
          </a:ln>
        </p:spPr>
      </p:pic>
      <p:pic>
        <p:nvPicPr>
          <p:cNvPr id="68" name="" descr=""/>
          <p:cNvPicPr/>
          <p:nvPr/>
        </p:nvPicPr>
        <p:blipFill>
          <a:blip r:embed="rId2"/>
          <a:stretch/>
        </p:blipFill>
        <p:spPr>
          <a:xfrm>
            <a:off x="1792440" y="612720"/>
            <a:ext cx="5486400" cy="4114800"/>
          </a:xfrm>
          <a:prstGeom prst="rect">
            <a:avLst/>
          </a:prstGeom>
          <a:ln w="0">
            <a:noFill/>
          </a:ln>
        </p:spPr>
      </p:pic>
      <p:sp>
        <p:nvSpPr>
          <p:cNvPr id="69" name="PlaceHolder 1"/>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of 10 Camps</a:t>
            </a:r>
            <a:endParaRPr b="0" lang="en-US" sz="1400" spc="-1" strike="noStrike">
              <a:solidFill>
                <a:srgbClr val="000000"/>
              </a:solidFill>
              <a:latin typeface="Arial"/>
            </a:endParaRPr>
          </a:p>
        </p:txBody>
      </p:sp>
      <p:sp>
        <p:nvSpPr>
          <p:cNvPr id="70" name="PlaceHolder 2"/>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3" name="Picture 2" descr="https://encrypted-tbn1.gstatic.com/images?q=tbn:ANd9GcQW2-W3olGggAm7StFYqIR5Nxf2gT5m2siXyAKIUXoByP99msHE"/>
          <p:cNvPicPr/>
          <p:nvPr/>
        </p:nvPicPr>
        <p:blipFill>
          <a:blip r:embed="rId1"/>
          <a:srcRect l="0" t="18627" r="0" b="18627"/>
          <a:stretch/>
        </p:blipFill>
        <p:spPr>
          <a:xfrm>
            <a:off x="1792440" y="61272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2400" spc="-1" strike="noStrike">
                <a:solidFill>
                  <a:srgbClr val="000000"/>
                </a:solidFill>
                <a:latin typeface="Arial"/>
              </a:rPr>
              <a:t>Mess Hall, Bathroom, Barracks, Japanese Relocation Center, Heart Mt. Wyoming,” by Estelle Ishigo</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75" name="Picture 6" descr="`Mess Hall, Bathroom, Barracks. Japanese Relocation Center. Heart Mt. Wyoming.` Watercolor">
            <a:hlinkClick r:id="rId1"/>
          </p:cNvPr>
          <p:cNvPicPr/>
          <p:nvPr/>
        </p:nvPicPr>
        <p:blipFill>
          <a:blip r:embed="rId2"/>
          <a:stretch/>
        </p:blipFill>
        <p:spPr>
          <a:xfrm>
            <a:off x="2362320" y="1949400"/>
            <a:ext cx="5181480" cy="3657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7" name="Picture 2" descr="http://www.dokdo-takeshima.com/wordpress/wp-content/images/japanese-treachery.jpg"/>
          <p:cNvPicPr/>
          <p:nvPr/>
        </p:nvPicPr>
        <p:blipFill>
          <a:blip r:embed="rId1"/>
          <a:stretch/>
        </p:blipFill>
        <p:spPr>
          <a:xfrm>
            <a:off x="1600200" y="609480"/>
            <a:ext cx="6058080" cy="5924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hoolchildren at Heart Mountain</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Picture 5" descr="photo of heart mountain school group"/>
          <p:cNvPicPr/>
          <p:nvPr/>
        </p:nvPicPr>
        <p:blipFill>
          <a:blip r:embed="rId1"/>
          <a:stretch/>
        </p:blipFill>
        <p:spPr>
          <a:xfrm>
            <a:off x="0" y="1981080"/>
            <a:ext cx="8572680" cy="3191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82" name="" descr=""/>
          <p:cNvPicPr/>
          <p:nvPr/>
        </p:nvPicPr>
        <p:blipFill>
          <a:blip r:embed="rId1"/>
          <a:stretch/>
        </p:blipFill>
        <p:spPr>
          <a:xfrm>
            <a:off x="1792440" y="612720"/>
            <a:ext cx="5486400" cy="4114800"/>
          </a:xfrm>
          <a:prstGeom prst="rect">
            <a:avLst/>
          </a:prstGeom>
          <a:ln w="0">
            <a:noFill/>
          </a:ln>
        </p:spPr>
      </p:pic>
      <p:sp>
        <p:nvSpPr>
          <p:cNvPr id="83"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84" name="Picture 2" descr="Waiting in line at a mess hall"/>
          <p:cNvPicPr/>
          <p:nvPr/>
        </p:nvPicPr>
        <p:blipFill>
          <a:blip r:embed="rId2"/>
          <a:stretch/>
        </p:blipFill>
        <p:spPr>
          <a:xfrm>
            <a:off x="2133720" y="1066680"/>
            <a:ext cx="5105160" cy="3657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4" descr=""/>
          <p:cNvPicPr/>
          <p:nvPr/>
        </p:nvPicPr>
        <p:blipFill>
          <a:blip r:embed="rId1"/>
          <a:stretch/>
        </p:blipFill>
        <p:spPr>
          <a:xfrm>
            <a:off x="990720" y="-25560"/>
            <a:ext cx="73152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equences of the </a:t>
            </a:r>
            <a:br>
              <a:rPr sz="3600"/>
            </a:br>
            <a:r>
              <a:rPr b="0" lang="en-US" sz="3600" spc="-1" strike="noStrike">
                <a:solidFill>
                  <a:srgbClr val="000000"/>
                </a:solidFill>
                <a:latin typeface="Arial"/>
              </a:rPr>
              <a:t>Bombing of Pearl Harbor</a:t>
            </a:r>
            <a:endParaRPr b="0" lang="en-US" sz="3600" spc="-1" strike="noStrike">
              <a:solidFill>
                <a:srgbClr val="000000"/>
              </a:solidFill>
              <a:latin typeface="Arial"/>
            </a:endParaRPr>
          </a:p>
        </p:txBody>
      </p:sp>
      <p:sp>
        <p:nvSpPr>
          <p:cNvPr id="51" name=""/>
          <p:cNvSpPr txBox="1"/>
          <p:nvPr/>
        </p:nvSpPr>
        <p:spPr>
          <a:xfrm>
            <a:off x="304560" y="1600200"/>
            <a:ext cx="4724280" cy="4525920"/>
          </a:xfrm>
          <a:prstGeom prst="rect">
            <a:avLst/>
          </a:prstGeom>
          <a:noFill/>
          <a:ln w="0">
            <a:noFill/>
          </a:ln>
        </p:spPr>
        <p:txBody>
          <a:bodyPr anchor="t">
            <a:normAutofit/>
          </a:bodyPr>
          <a:p>
            <a:pPr marL="343080" indent="-34308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 enters WWII and prepares to fight a two-front war</a:t>
            </a:r>
            <a:endParaRPr b="0" lang="en-US" sz="28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that US is at war with Germany, Italy and Japan, how will it treat people from those countr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e of Race?</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2" name="Picture 7" descr="Anti-Jap4"/>
          <p:cNvPicPr/>
          <p:nvPr/>
        </p:nvPicPr>
        <p:blipFill>
          <a:blip r:embed="rId1"/>
          <a:stretch/>
        </p:blipFill>
        <p:spPr>
          <a:xfrm>
            <a:off x="5257800" y="1828800"/>
            <a:ext cx="2262240" cy="3581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4" descr="Tule Lake kids, National Archives and Records Administration"/>
          <p:cNvPicPr/>
          <p:nvPr/>
        </p:nvPicPr>
        <p:blipFill>
          <a:blip r:embed="rId1"/>
          <a:stretch/>
        </p:blipFill>
        <p:spPr>
          <a:xfrm>
            <a:off x="380880" y="41400"/>
            <a:ext cx="8382240" cy="6775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Fred young portrait, from Karen-high res"/>
          <p:cNvPicPr/>
          <p:nvPr/>
        </p:nvPicPr>
        <p:blipFill>
          <a:blip r:embed="rId1"/>
          <a:stretch/>
        </p:blipFill>
        <p:spPr>
          <a:xfrm>
            <a:off x="1755720" y="0"/>
            <a:ext cx="5940360" cy="6858000"/>
          </a:xfrm>
          <a:prstGeom prst="rect">
            <a:avLst/>
          </a:prstGeom>
          <a:ln w="0">
            <a:noFill/>
          </a:ln>
        </p:spPr>
      </p:pic>
      <p:sp>
        <p:nvSpPr>
          <p:cNvPr id="88" name="Text Box 5"/>
          <p:cNvSpPr/>
          <p:nvPr/>
        </p:nvSpPr>
        <p:spPr>
          <a:xfrm>
            <a:off x="1828800" y="6629400"/>
            <a:ext cx="5867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oto Courtesy of Karen Korematsu and the Korematsu Institu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ed Korematsu</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 years ol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erican citizen (Nisei, second gener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rematsu changed his name and had cosmetic surgery to make himself appear less Japane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charged with remaining in a military area barred to those of Japanese ancest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ic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korematsuVisual"/>
          <p:cNvPicPr/>
          <p:nvPr/>
        </p:nvPicPr>
        <p:blipFill>
          <a:blip r:embed="rId1"/>
          <a:stretch/>
        </p:blipFill>
        <p:spPr>
          <a:xfrm>
            <a:off x="1600200" y="22320"/>
            <a:ext cx="5715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llowing conviction, sent to Topaz, Utah internment cam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LU persuaded him to appeal his c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le case pending, allowed to work as welder outside of CA. Went to Detroi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om DeWitt’s 1943 Report</a:t>
            </a:r>
            <a:endParaRPr b="0" lang="en-US"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lligence services records reflected the existence of hundreds of Japanese organizations in California, Washington, Oregon and Arizona which, prior to December 7, 1941, were actively engaged in advancing Japanese war aims. These records also disclosed that thousands of American-born Japanese had gone to Japan to receive their education and indoctrination there and had become rabidly pro-Japanese and then had returned to the United States. Emperor-worshipping ceremonies were commonly held and millions of dollars had flowed into the Japanese imperial war chest from the contributions freely made by Japanese here. The continued presence of a large, unassimilated, tightly knit and racial group, bound to an enemy nation by strong ties of race, culture, custom and religion along a frontier vulnerable to attack constituted a menace which had to be dealt with.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http://img.docstoccdn.com/thumb/orig/11383985.png"/>
          <p:cNvPicPr/>
          <p:nvPr/>
        </p:nvPicPr>
        <p:blipFill>
          <a:blip r:embed="rId1"/>
          <a:stretch/>
        </p:blipFill>
        <p:spPr>
          <a:xfrm>
            <a:off x="2514600" y="762120"/>
            <a:ext cx="4076640" cy="5276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990720" y="533520"/>
            <a:ext cx="67816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stice Black</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2000" spc="-1" strike="noStrike">
                <a:solidFill>
                  <a:srgbClr val="000000"/>
                </a:solidFill>
                <a:latin typeface="Arial"/>
              </a:rPr>
              <a:t>Korematsu was not excluded from the Military Area because of hostility to him or his race. He was excluded because we are at war with the Japanese Empire, because the properly constituted military authorities feared an invasion of our West Coast and felt constrained to take proper security measures, because they decided that the military urgency of the situation demanded that all citizens of Japanese ancestry be segregated from the West Coast temporarily, and finally, because Congress, reposing its confidence in this time of war in our military leaders-as inevitably it must-determined that they should have the power to do just this. There was evidence of disloyalty on the part of some, the military authorities considered that the need for action was great, and time was short. We cannot-by availing ourselves of the calm perspective of hindsight-now say that at that time these actions were unjustified."</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 dissents</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int dissent of Roberts, Murphy, Jackson: unconst as no evidence of disloyal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ice Murphy: falls into the ugly abyss of racism and violates procedural due process and equal protection of the law (see next sl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ice Jackson: our system depends on personal guilt, not inheritable guil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stice Frank Murphy</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Picture 5" descr="Justice Frank Murphy.jpg"/>
          <p:cNvPicPr/>
          <p:nvPr/>
        </p:nvPicPr>
        <p:blipFill>
          <a:blip r:embed="rId1"/>
          <a:stretch/>
        </p:blipFill>
        <p:spPr>
          <a:xfrm>
            <a:off x="2819520" y="1752480"/>
            <a:ext cx="3047760" cy="3505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cutive Order 9066</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ive Order 9066 authorized the Secretary of War and U.S. armed forces commanders to declare areas of the United States as military zones "from which any or all persons may be exclud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ress passed act enforcing exclu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stice Frank Murphy</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stification for exclusion not based on any reliable evide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questionable racial and sociological grounds: a “large, unassimilated, tightly knit racial group bound to an enemy nation by strong ties of race, culture, custom and relig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issent from this legalization of racism. . . It is unattractive in any setting but it is utterly revolting among a free people who have embraced the principles set forth in the Constitu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http://myhero.com/images/guest/g8688/hero9337/g8688_u6320_fredkorematsuportrait.jpg"/>
          <p:cNvPicPr/>
          <p:nvPr/>
        </p:nvPicPr>
        <p:blipFill>
          <a:blip r:embed="rId1"/>
          <a:stretch/>
        </p:blipFill>
        <p:spPr>
          <a:xfrm>
            <a:off x="2590920" y="1600200"/>
            <a:ext cx="3504960" cy="3962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
          <p:cNvSpPr/>
          <p:nvPr/>
        </p:nvSpPr>
        <p:spPr>
          <a:xfrm>
            <a:off x="2286000" y="1859040"/>
            <a:ext cx="4572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980, President Jimmy Carter appointed a special commission to investigate the internment of Japanese-Americans during World War II. The commission concluded in 1983 that the decisions to remove those of Japanese ancestry to prison camps was ot based on military necessity but occurred because of "race prejudice, war hysteria, and a failure of political leadershi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rit of coram nobis granted, 1984</a:t>
            </a:r>
            <a:endParaRPr b="0" lang="en-US" sz="40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rses convi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dy to restore erroneously convicted person to pre-conviction st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ter Irons (legal historian) and others had discovered that govt lawyers tried to conceal DeWitt’s fabricated claims of Japanese-American disloyalty.</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vil Liberties Act of 1988</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88, Congress apologized and granted personal compensation of $20,000 to each surviving prisoner.</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ter from President George H. Bush: “[W]e can take a clear stand for justice and recognize that serious injustices were done to Japanese Americans during World War II.”</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myhero.com/images/guest/g8688/hero9337/g8688_u6321_fredwithclinton_.jpg"/>
          <p:cNvPicPr/>
          <p:nvPr/>
        </p:nvPicPr>
        <p:blipFill>
          <a:blip r:embed="rId1"/>
          <a:stretch/>
        </p:blipFill>
        <p:spPr>
          <a:xfrm>
            <a:off x="3276720" y="2133720"/>
            <a:ext cx="1904760" cy="2238120"/>
          </a:xfrm>
          <a:prstGeom prst="rect">
            <a:avLst/>
          </a:prstGeom>
          <a:ln w="0">
            <a:noFill/>
          </a:ln>
        </p:spPr>
      </p:pic>
      <p:sp>
        <p:nvSpPr>
          <p:cNvPr id="114"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idential Medal of Freedom 1988</a:t>
            </a:r>
            <a:endParaRPr b="0" lang="en-US" sz="2000" spc="-1" strike="noStrike">
              <a:solidFill>
                <a:srgbClr val="000000"/>
              </a:solidFill>
              <a:latin typeface="Arial"/>
            </a:endParaRPr>
          </a:p>
        </p:txBody>
      </p:sp>
      <p:pic>
        <p:nvPicPr>
          <p:cNvPr id="115" name="" descr=""/>
          <p:cNvPicPr/>
          <p:nvPr/>
        </p:nvPicPr>
        <p:blipFill>
          <a:blip r:embed="rId2"/>
          <a:stretch/>
        </p:blipFill>
        <p:spPr>
          <a:xfrm>
            <a:off x="1792440" y="612720"/>
            <a:ext cx="5486400" cy="4114800"/>
          </a:xfrm>
          <a:prstGeom prst="rect">
            <a:avLst/>
          </a:prstGeom>
          <a:ln w="0">
            <a:noFill/>
          </a:ln>
        </p:spPr>
      </p:pic>
      <p:sp>
        <p:nvSpPr>
          <p:cNvPr id="116"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3, amicus brief</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behalf of Fred Korematsu</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s of Rasul, Hamdi, Odah involving SCOTUS review of prolonged detentions under Bush administration’s “war on terro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ef argues that “government’s position . . . is reminiscent of [past episodes] in which the US too quickly sacrificed civil liberties in the rush to accommodate overbroad claims of military necess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ston Marathon Bombings</a:t>
            </a:r>
            <a:endParaRPr b="0" lang="en-US" sz="44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security vs. Civil liber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lerance vs. Terrori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going deb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http://www.nps.gov/manz/historyculture/images/EO9066.jpg"/>
          <p:cNvPicPr/>
          <p:nvPr/>
        </p:nvPicPr>
        <p:blipFill>
          <a:blip r:embed="rId1"/>
          <a:stretch/>
        </p:blipFill>
        <p:spPr>
          <a:xfrm>
            <a:off x="2666880" y="609480"/>
            <a:ext cx="3915000" cy="5276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ies of Order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 Gen. DeWit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lusion, then Evacuation, then Detention (initial plan was resettl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accurate reports of disloyal Japane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http://upload.wikimedia.org/wikipedia/commons/8/80/John_Lesene_Dewitt_copy.PNG">
            <a:hlinkClick r:id="rId1"/>
          </p:cNvPr>
          <p:cNvPicPr/>
          <p:nvPr/>
        </p:nvPicPr>
        <p:blipFill>
          <a:blip r:embed="rId2"/>
          <a:stretch/>
        </p:blipFill>
        <p:spPr>
          <a:xfrm>
            <a:off x="2895480" y="1600200"/>
            <a:ext cx="2667240" cy="312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http://www.nps.gov/manz/historyculture/images/Poster.jpg"/>
          <p:cNvPicPr/>
          <p:nvPr/>
        </p:nvPicPr>
        <p:blipFill>
          <a:blip r:embed="rId1"/>
          <a:stretch/>
        </p:blipFill>
        <p:spPr>
          <a:xfrm>
            <a:off x="2209680" y="304920"/>
            <a:ext cx="4419720" cy="617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
          <p:cNvPicPr/>
          <p:nvPr/>
        </p:nvPicPr>
        <p:blipFill>
          <a:blip r:embed="rId1"/>
          <a:stretch/>
        </p:blipFill>
        <p:spPr>
          <a:xfrm>
            <a:off x="0" y="-23760"/>
            <a:ext cx="9144000" cy="687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odore Geisel, Feb 13, 1942</a:t>
            </a:r>
            <a:endParaRPr b="0" lang="en-US" sz="4400" spc="-1" strike="noStrike">
              <a:solidFill>
                <a:srgbClr val="000000"/>
              </a:solidFill>
              <a:latin typeface="Arial"/>
            </a:endParaRPr>
          </a:p>
        </p:txBody>
      </p:sp>
      <p:pic>
        <p:nvPicPr>
          <p:cNvPr id="62" name="Picture 2" descr="http://www.intimeandplace.org/Japanese%20Internment/images/posters/prop8.jpg"/>
          <p:cNvPicPr/>
          <p:nvPr/>
        </p:nvPicPr>
        <p:blipFill>
          <a:blip r:embed="rId1"/>
          <a:stretch/>
        </p:blipFill>
        <p:spPr>
          <a:xfrm>
            <a:off x="1600200" y="1752480"/>
            <a:ext cx="5562720" cy="434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2T16:44:22Z</dcterms:created>
  <dc:creator>egoldberg</dc:creator>
  <dc:description/>
  <dc:language>en-US</dc:language>
  <cp:lastModifiedBy>Berenson, Barbara</cp:lastModifiedBy>
  <cp:lastPrinted>2011-11-07T22:27:53Z</cp:lastPrinted>
  <dcterms:modified xsi:type="dcterms:W3CDTF">2013-04-23T16:50:12Z</dcterms:modified>
  <cp:revision>45</cp:revision>
  <dc:subject/>
  <dc:title>Fred T. Korematsu Day  of Civil Liberties and the Constitution</dc:title>
</cp:coreProperties>
</file>